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3.wmf" ContentType="image/x-wmf"/>
  <Override PartName="/ppt/media/image6.jpeg" ContentType="image/jpeg"/>
  <Override PartName="/ppt/media/image5.jpeg" ContentType="image/jpeg"/>
  <Override PartName="/ppt/media/image18.wmf" ContentType="image/x-wmf"/>
  <Override PartName="/ppt/media/image20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2.png" ContentType="image/png"/>
  <Override PartName="/ppt/media/image4.jpeg" ContentType="image/jpeg"/>
  <Override PartName="/ppt/media/image14.wmf" ContentType="image/x-wmf"/>
  <Override PartName="/ppt/media/image1.jpeg" ContentType="image/jpeg"/>
  <Override PartName="/ppt/media/image15.wmf" ContentType="image/x-wmf"/>
  <Override PartName="/ppt/media/image3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4CD2-B10E-40B9-86A8-C7EE4CC65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CFC1-79AF-4AAF-95EA-184789071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CF1E-95D9-4CBE-97F6-276536CD2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3B72-2CF5-490A-B3E4-92F2AC74E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B28C-463B-4978-AD76-A0DA3D492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9DB7-1160-4952-8527-B2C11B9D8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4618-0DFD-4BB4-AEFF-1E422C0F9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836F-58FA-4DFE-967C-932EE5FC4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9E3F-0CA9-4B4A-A63D-F3BA411AD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D984-6B0F-4134-BAF3-E24B5E0DB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653F-0A2C-443C-89C3-28A5819AC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377C-CAB7-4A39-8DAE-E206FBFF2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F0483-827B-40B3-8D34-840EA492C7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chandra.harvard.edu/photo/2007/a3627/a3627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a3627_42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Definition of planet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nner Har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yson Peth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x Lo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8" descr="http://rds.yahoo.com/_ylt=A2KJkK7Zh1xNFlcA0GOjzbkF/SIG=13hmi9jtm/EXP=1297938521/**http%3a/www.wallpaperstop.com/wallpapers/space-wallpapers/space-backgrounds-1600x1200-0011.jpg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" name="Object 3"/>
          <p:cNvGraphicFramePr/>
          <p:nvPr/>
        </p:nvGraphicFramePr>
        <p:xfrm>
          <a:off x="0" y="0"/>
          <a:ext cx="8610480" cy="6858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8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86104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Straight Connector 4"/>
          <p:cNvSpPr/>
          <p:nvPr/>
        </p:nvSpPr>
        <p:spPr>
          <a:xfrm>
            <a:off x="838080" y="5638680"/>
            <a:ext cx="7620120" cy="0"/>
          </a:xfrm>
          <a:prstGeom prst="line">
            <a:avLst/>
          </a:prstGeom>
          <a:ln w="381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8" descr="http://rds.yahoo.com/_ylt=A2KJkK7Zh1xNFlcA0GOjzbkF/SIG=13hmi9jtm/EXP=1297938521/**http%3a/www.wallpaperstop.com/wallpapers/space-wallpapers/space-backgrounds-1600x1200-0011.jpg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1" name="Object 3"/>
          <p:cNvGraphicFramePr/>
          <p:nvPr/>
        </p:nvGraphicFramePr>
        <p:xfrm>
          <a:off x="0" y="304920"/>
          <a:ext cx="9144000" cy="6253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2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04920"/>
                    <a:ext cx="9144000" cy="62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Straight Connector 4"/>
          <p:cNvSpPr/>
          <p:nvPr/>
        </p:nvSpPr>
        <p:spPr>
          <a:xfrm>
            <a:off x="685800" y="5638680"/>
            <a:ext cx="8305920" cy="0"/>
          </a:xfrm>
          <a:prstGeom prst="line">
            <a:avLst/>
          </a:prstGeom>
          <a:ln w="381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8" descr="http://rds.yahoo.com/_ylt=A2KJkK7Zh1xNFlcA0GOjzbkF/SIG=13hmi9jtm/EXP=1297938521/**http%3a/www.wallpaperstop.com/wallpapers/space-wallpapers/space-backgrounds-1600x1200-0011.jpg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5" name="Object 3"/>
          <p:cNvGraphicFramePr/>
          <p:nvPr/>
        </p:nvGraphicFramePr>
        <p:xfrm>
          <a:off x="0" y="316080"/>
          <a:ext cx="9101160" cy="62244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16080"/>
                    <a:ext cx="9101160" cy="622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Straight Connector 2"/>
          <p:cNvSpPr/>
          <p:nvPr/>
        </p:nvSpPr>
        <p:spPr>
          <a:xfrm>
            <a:off x="838080" y="5181480"/>
            <a:ext cx="8077320" cy="0"/>
          </a:xfrm>
          <a:prstGeom prst="line">
            <a:avLst/>
          </a:prstGeom>
          <a:ln w="381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5" descr="File:Milky Way Galax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523880" y="1828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nine eight plan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" descr="http://www.pavilion.co.uk/lcs/projects/space/images/mercury.jpg"/>
          <p:cNvPicPr/>
          <p:nvPr/>
        </p:nvPicPr>
        <p:blipFill>
          <a:blip r:embed="rId2"/>
          <a:stretch/>
        </p:blipFill>
        <p:spPr>
          <a:xfrm>
            <a:off x="0" y="0"/>
            <a:ext cx="1523880" cy="1333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http://www.pavilion.co.uk/lcs/projects/space/images/venus.jpg"/>
          <p:cNvPicPr/>
          <p:nvPr/>
        </p:nvPicPr>
        <p:blipFill>
          <a:blip r:embed="rId3"/>
          <a:stretch/>
        </p:blipFill>
        <p:spPr>
          <a:xfrm>
            <a:off x="0" y="5524560"/>
            <a:ext cx="1523880" cy="1333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http://www.pavilion.co.uk/lcs/projects/space/images/Earth.jpg"/>
          <p:cNvPicPr/>
          <p:nvPr/>
        </p:nvPicPr>
        <p:blipFill>
          <a:blip r:embed="rId4"/>
          <a:stretch/>
        </p:blipFill>
        <p:spPr>
          <a:xfrm>
            <a:off x="3962520" y="2590920"/>
            <a:ext cx="1523880" cy="1380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http://www.pavilion.co.uk/lcs/projects/space/images/mars.jpg"/>
          <p:cNvPicPr/>
          <p:nvPr/>
        </p:nvPicPr>
        <p:blipFill>
          <a:blip r:embed="rId5"/>
          <a:stretch/>
        </p:blipFill>
        <p:spPr>
          <a:xfrm>
            <a:off x="7620120" y="2743200"/>
            <a:ext cx="1523880" cy="1333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http://www.pavilion.co.uk/lcs/projects/space/images/jupiter.jpg"/>
          <p:cNvPicPr/>
          <p:nvPr/>
        </p:nvPicPr>
        <p:blipFill>
          <a:blip r:embed="rId6"/>
          <a:stretch/>
        </p:blipFill>
        <p:spPr>
          <a:xfrm>
            <a:off x="7620120" y="5524560"/>
            <a:ext cx="1523880" cy="1333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http://www.pavilion.co.uk/lcs/projects/space/images/saturn.jpg"/>
          <p:cNvPicPr/>
          <p:nvPr/>
        </p:nvPicPr>
        <p:blipFill>
          <a:blip r:embed="rId7"/>
          <a:stretch/>
        </p:blipFill>
        <p:spPr>
          <a:xfrm>
            <a:off x="0" y="2666880"/>
            <a:ext cx="1523880" cy="1333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http://www.pavilion.co.uk/lcs/projects/space/images/uranus.jpg"/>
          <p:cNvPicPr/>
          <p:nvPr/>
        </p:nvPicPr>
        <p:blipFill>
          <a:blip r:embed="rId8"/>
          <a:stretch/>
        </p:blipFill>
        <p:spPr>
          <a:xfrm>
            <a:off x="7620120" y="0"/>
            <a:ext cx="1523880" cy="1333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http://www.pavilion.co.uk/lcs/projects/space/images/neptune.jpg"/>
          <p:cNvPicPr/>
          <p:nvPr/>
        </p:nvPicPr>
        <p:blipFill>
          <a:blip r:embed="rId9"/>
          <a:stretch/>
        </p:blipFill>
        <p:spPr>
          <a:xfrm>
            <a:off x="3886200" y="0"/>
            <a:ext cx="1523880" cy="1333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http://www.pavilion.co.uk/lcs/projects/space/images/pluto.jpg"/>
          <p:cNvPicPr/>
          <p:nvPr/>
        </p:nvPicPr>
        <p:blipFill>
          <a:blip r:embed="rId10"/>
          <a:stretch/>
        </p:blipFill>
        <p:spPr>
          <a:xfrm>
            <a:off x="4038480" y="5524560"/>
            <a:ext cx="1524240" cy="1333440"/>
          </a:xfrm>
          <a:prstGeom prst="rect">
            <a:avLst/>
          </a:prstGeom>
          <a:ln w="0">
            <a:noFill/>
          </a:ln>
        </p:spPr>
      </p:pic>
      <p:sp>
        <p:nvSpPr>
          <p:cNvPr id="129" name="TextBox 13"/>
          <p:cNvSpPr/>
          <p:nvPr/>
        </p:nvSpPr>
        <p:spPr>
          <a:xfrm>
            <a:off x="7848720" y="51055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up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5"/>
          <p:cNvSpPr/>
          <p:nvPr/>
        </p:nvSpPr>
        <p:spPr>
          <a:xfrm>
            <a:off x="380880" y="4038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6"/>
          <p:cNvSpPr/>
          <p:nvPr/>
        </p:nvSpPr>
        <p:spPr>
          <a:xfrm>
            <a:off x="304920" y="51055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ptu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7"/>
          <p:cNvSpPr/>
          <p:nvPr/>
        </p:nvSpPr>
        <p:spPr>
          <a:xfrm>
            <a:off x="4419720" y="4191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8"/>
          <p:cNvSpPr/>
          <p:nvPr/>
        </p:nvSpPr>
        <p:spPr>
          <a:xfrm>
            <a:off x="8001000" y="4191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20"/>
          <p:cNvSpPr/>
          <p:nvPr/>
        </p:nvSpPr>
        <p:spPr>
          <a:xfrm>
            <a:off x="7848720" y="16002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ra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1"/>
          <p:cNvSpPr/>
          <p:nvPr/>
        </p:nvSpPr>
        <p:spPr>
          <a:xfrm>
            <a:off x="4267080" y="5029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u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22"/>
          <p:cNvSpPr/>
          <p:nvPr/>
        </p:nvSpPr>
        <p:spPr>
          <a:xfrm>
            <a:off x="4114800" y="1523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23"/>
          <p:cNvSpPr/>
          <p:nvPr/>
        </p:nvSpPr>
        <p:spPr>
          <a:xfrm>
            <a:off x="228600" y="1447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rc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Multiply 24"/>
          <p:cNvSpPr/>
          <p:nvPr/>
        </p:nvSpPr>
        <p:spPr>
          <a:xfrm>
            <a:off x="0" y="0"/>
            <a:ext cx="1447920" cy="1371600"/>
          </a:xfrm>
          <a:custGeom>
            <a:avLst/>
            <a:gdLst>
              <a:gd name="textAreaLeft" fmla="*/ 236520 w 1447920"/>
              <a:gd name="textAreaRight" fmla="*/ 1211400 w 1447920"/>
              <a:gd name="textAreaTop" fmla="*/ 212040 h 1371600"/>
              <a:gd name="textAreaBottom" fmla="*/ 1159560 h 1371600"/>
            </a:gdLst>
            <a:ahLst/>
            <a:rect l="textAreaLeft" t="textAreaTop" r="textAreaRight" b="textAreaBottom"/>
            <a:pathLst>
              <a:path w="1447800" h="1371600">
                <a:moveTo>
                  <a:pt x="236792" y="446520"/>
                </a:moveTo>
                <a:lnTo>
                  <a:pt x="458659" y="212328"/>
                </a:lnTo>
                <a:lnTo>
                  <a:pt x="723900" y="463609"/>
                </a:lnTo>
                <a:lnTo>
                  <a:pt x="989141" y="212328"/>
                </a:lnTo>
                <a:lnTo>
                  <a:pt x="1211008" y="446520"/>
                </a:lnTo>
                <a:lnTo>
                  <a:pt x="958435" y="685800"/>
                </a:lnTo>
                <a:lnTo>
                  <a:pt x="1211008" y="925080"/>
                </a:lnTo>
                <a:lnTo>
                  <a:pt x="989141" y="1159272"/>
                </a:lnTo>
                <a:lnTo>
                  <a:pt x="723900" y="907991"/>
                </a:lnTo>
                <a:lnTo>
                  <a:pt x="458659" y="1159272"/>
                </a:lnTo>
                <a:lnTo>
                  <a:pt x="236792" y="925080"/>
                </a:lnTo>
                <a:lnTo>
                  <a:pt x="489365" y="6858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traight Connector 26"/>
          <p:cNvSpPr/>
          <p:nvPr/>
        </p:nvSpPr>
        <p:spPr>
          <a:xfrm flipV="1">
            <a:off x="3352680" y="2133360"/>
            <a:ext cx="914400" cy="152280"/>
          </a:xfrm>
          <a:prstGeom prst="line">
            <a:avLst/>
          </a:prstGeom>
          <a:ln w="381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traight Connector 27"/>
          <p:cNvSpPr/>
          <p:nvPr/>
        </p:nvSpPr>
        <p:spPr>
          <a:xfrm>
            <a:off x="3276720" y="2133720"/>
            <a:ext cx="914400" cy="152280"/>
          </a:xfrm>
          <a:prstGeom prst="line">
            <a:avLst/>
          </a:prstGeom>
          <a:ln w="381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8" descr="http://rds.yahoo.com/_ylt=A2KJkK7Zh1xNFlcA0GOjzbkF/SIG=13hmi9jtm/EXP=1297938521/**http%3a/www.wallpaperstop.com/wallpapers/space-wallpapers/space-backgrounds-1600x1200-0011.jpg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2" name="Object 4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3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8" descr="http://rds.yahoo.com/_ylt=A2KJkK7Zh1xNFlcA0GOjzbkF/SIG=13hmi9jtm/EXP=1297938521/**http%3a/www.wallpaperstop.com/wallpapers/space-wallpapers/space-backgrounds-1600x1200-0011.jpg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5" name="Object 4"/>
          <p:cNvGraphicFramePr/>
          <p:nvPr/>
        </p:nvGraphicFramePr>
        <p:xfrm>
          <a:off x="237960" y="457200"/>
          <a:ext cx="8668080" cy="5857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6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7960" y="457200"/>
                    <a:ext cx="8668080" cy="58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Straight Connector 4"/>
          <p:cNvSpPr/>
          <p:nvPr/>
        </p:nvSpPr>
        <p:spPr>
          <a:xfrm>
            <a:off x="1447920" y="5410080"/>
            <a:ext cx="7315200" cy="0"/>
          </a:xfrm>
          <a:prstGeom prst="line">
            <a:avLst/>
          </a:prstGeom>
          <a:ln w="381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8" descr="http://rds.yahoo.com/_ylt=A2KJkK7Zh1xNFlcA0GOjzbkF/SIG=13hmi9jtm/EXP=1297938521/**http%3a/www.wallpaperstop.com/wallpapers/space-wallpapers/space-backgrounds-1600x1200-0011.jpg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9" name="Object 4"/>
          <p:cNvGraphicFramePr/>
          <p:nvPr/>
        </p:nvGraphicFramePr>
        <p:xfrm>
          <a:off x="276120" y="457200"/>
          <a:ext cx="8667720" cy="5857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0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6120" y="457200"/>
                    <a:ext cx="8667720" cy="58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8" descr="http://rds.yahoo.com/_ylt=A2KJkK7Zh1xNFlcA0GOjzbkF/SIG=13hmi9jtm/EXP=1297938521/**http%3a/www.wallpaperstop.com/wallpapers/space-wallpapers/space-backgrounds-1600x1200-0011.jpg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2" name="Object 4"/>
          <p:cNvGraphicFramePr/>
          <p:nvPr/>
        </p:nvGraphicFramePr>
        <p:xfrm>
          <a:off x="228600" y="457200"/>
          <a:ext cx="8667720" cy="5857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3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457200"/>
                    <a:ext cx="8667720" cy="58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Straight Connector 2"/>
          <p:cNvSpPr/>
          <p:nvPr/>
        </p:nvSpPr>
        <p:spPr>
          <a:xfrm>
            <a:off x="1600200" y="1905120"/>
            <a:ext cx="6477120" cy="0"/>
          </a:xfrm>
          <a:prstGeom prst="line">
            <a:avLst/>
          </a:prstGeom>
          <a:ln w="381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8" descr="http://rds.yahoo.com/_ylt=A2KJkK7Zh1xNFlcA0GOjzbkF/SIG=13hmi9jtm/EXP=1297938521/**http%3a/www.wallpaperstop.com/wallpapers/space-wallpapers/space-backgrounds-1600x1200-0011.jpg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6" name="Object 4"/>
          <p:cNvGraphicFramePr/>
          <p:nvPr/>
        </p:nvGraphicFramePr>
        <p:xfrm>
          <a:off x="228600" y="609480"/>
          <a:ext cx="8667720" cy="6019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609480"/>
                    <a:ext cx="866772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Straight Connector 2"/>
          <p:cNvSpPr/>
          <p:nvPr/>
        </p:nvSpPr>
        <p:spPr>
          <a:xfrm>
            <a:off x="1600200" y="1981080"/>
            <a:ext cx="6477120" cy="0"/>
          </a:xfrm>
          <a:prstGeom prst="line">
            <a:avLst/>
          </a:prstGeom>
          <a:ln w="381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15" descr="File:Milky Way Galax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523880" y="1828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nine eight plan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" descr="http://www.pavilion.co.uk/lcs/projects/space/images/mercury.jpg"/>
          <p:cNvPicPr/>
          <p:nvPr/>
        </p:nvPicPr>
        <p:blipFill>
          <a:blip r:embed="rId2"/>
          <a:stretch/>
        </p:blipFill>
        <p:spPr>
          <a:xfrm>
            <a:off x="0" y="0"/>
            <a:ext cx="1523880" cy="13334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http://www.pavilion.co.uk/lcs/projects/space/images/venus.jpg"/>
          <p:cNvPicPr/>
          <p:nvPr/>
        </p:nvPicPr>
        <p:blipFill>
          <a:blip r:embed="rId3"/>
          <a:stretch/>
        </p:blipFill>
        <p:spPr>
          <a:xfrm>
            <a:off x="0" y="5524560"/>
            <a:ext cx="1523880" cy="1333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http://www.pavilion.co.uk/lcs/projects/space/images/Earth.jpg"/>
          <p:cNvPicPr/>
          <p:nvPr/>
        </p:nvPicPr>
        <p:blipFill>
          <a:blip r:embed="rId4"/>
          <a:stretch/>
        </p:blipFill>
        <p:spPr>
          <a:xfrm>
            <a:off x="3962520" y="2590920"/>
            <a:ext cx="1523880" cy="13809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http://www.pavilion.co.uk/lcs/projects/space/images/mars.jpg"/>
          <p:cNvPicPr/>
          <p:nvPr/>
        </p:nvPicPr>
        <p:blipFill>
          <a:blip r:embed="rId5"/>
          <a:stretch/>
        </p:blipFill>
        <p:spPr>
          <a:xfrm>
            <a:off x="7620120" y="2743200"/>
            <a:ext cx="1523880" cy="13334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http://www.pavilion.co.uk/lcs/projects/space/images/jupiter.jpg"/>
          <p:cNvPicPr/>
          <p:nvPr/>
        </p:nvPicPr>
        <p:blipFill>
          <a:blip r:embed="rId6"/>
          <a:stretch/>
        </p:blipFill>
        <p:spPr>
          <a:xfrm>
            <a:off x="7620120" y="5524560"/>
            <a:ext cx="1523880" cy="13334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http://www.pavilion.co.uk/lcs/projects/space/images/saturn.jpg"/>
          <p:cNvPicPr/>
          <p:nvPr/>
        </p:nvPicPr>
        <p:blipFill>
          <a:blip r:embed="rId7"/>
          <a:stretch/>
        </p:blipFill>
        <p:spPr>
          <a:xfrm>
            <a:off x="0" y="2666880"/>
            <a:ext cx="1523880" cy="13338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http://www.pavilion.co.uk/lcs/projects/space/images/uranus.jpg"/>
          <p:cNvPicPr/>
          <p:nvPr/>
        </p:nvPicPr>
        <p:blipFill>
          <a:blip r:embed="rId8"/>
          <a:stretch/>
        </p:blipFill>
        <p:spPr>
          <a:xfrm>
            <a:off x="7620120" y="0"/>
            <a:ext cx="1523880" cy="13334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http://www.pavilion.co.uk/lcs/projects/space/images/neptune.jpg"/>
          <p:cNvPicPr/>
          <p:nvPr/>
        </p:nvPicPr>
        <p:blipFill>
          <a:blip r:embed="rId9"/>
          <a:stretch/>
        </p:blipFill>
        <p:spPr>
          <a:xfrm>
            <a:off x="3886200" y="0"/>
            <a:ext cx="1523880" cy="13334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http://www.pavilion.co.uk/lcs/projects/space/images/pluto.jpg"/>
          <p:cNvPicPr/>
          <p:nvPr/>
        </p:nvPicPr>
        <p:blipFill>
          <a:blip r:embed="rId10"/>
          <a:stretch/>
        </p:blipFill>
        <p:spPr>
          <a:xfrm>
            <a:off x="4038480" y="5524560"/>
            <a:ext cx="1524240" cy="1333440"/>
          </a:xfrm>
          <a:prstGeom prst="rect">
            <a:avLst/>
          </a:prstGeom>
          <a:ln w="0">
            <a:noFill/>
          </a:ln>
        </p:spPr>
      </p:pic>
      <p:sp>
        <p:nvSpPr>
          <p:cNvPr id="170" name="TextBox 13"/>
          <p:cNvSpPr/>
          <p:nvPr/>
        </p:nvSpPr>
        <p:spPr>
          <a:xfrm>
            <a:off x="7848720" y="51055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up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5"/>
          <p:cNvSpPr/>
          <p:nvPr/>
        </p:nvSpPr>
        <p:spPr>
          <a:xfrm>
            <a:off x="380880" y="4038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6"/>
          <p:cNvSpPr/>
          <p:nvPr/>
        </p:nvSpPr>
        <p:spPr>
          <a:xfrm>
            <a:off x="304920" y="51055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ptu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7"/>
          <p:cNvSpPr/>
          <p:nvPr/>
        </p:nvSpPr>
        <p:spPr>
          <a:xfrm>
            <a:off x="4419720" y="4191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8"/>
          <p:cNvSpPr/>
          <p:nvPr/>
        </p:nvSpPr>
        <p:spPr>
          <a:xfrm>
            <a:off x="8001000" y="4191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20"/>
          <p:cNvSpPr/>
          <p:nvPr/>
        </p:nvSpPr>
        <p:spPr>
          <a:xfrm>
            <a:off x="7848720" y="16002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ra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21"/>
          <p:cNvSpPr/>
          <p:nvPr/>
        </p:nvSpPr>
        <p:spPr>
          <a:xfrm>
            <a:off x="4267080" y="5029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u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22"/>
          <p:cNvSpPr/>
          <p:nvPr/>
        </p:nvSpPr>
        <p:spPr>
          <a:xfrm>
            <a:off x="4114800" y="1523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23"/>
          <p:cNvSpPr/>
          <p:nvPr/>
        </p:nvSpPr>
        <p:spPr>
          <a:xfrm>
            <a:off x="228600" y="1447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rc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Multiply 24"/>
          <p:cNvSpPr/>
          <p:nvPr/>
        </p:nvSpPr>
        <p:spPr>
          <a:xfrm>
            <a:off x="0" y="0"/>
            <a:ext cx="1447920" cy="1371600"/>
          </a:xfrm>
          <a:custGeom>
            <a:avLst/>
            <a:gdLst>
              <a:gd name="textAreaLeft" fmla="*/ 236520 w 1447920"/>
              <a:gd name="textAreaRight" fmla="*/ 1211400 w 1447920"/>
              <a:gd name="textAreaTop" fmla="*/ 212040 h 1371600"/>
              <a:gd name="textAreaBottom" fmla="*/ 1159560 h 1371600"/>
            </a:gdLst>
            <a:ahLst/>
            <a:rect l="textAreaLeft" t="textAreaTop" r="textAreaRight" b="textAreaBottom"/>
            <a:pathLst>
              <a:path w="1447800" h="1371600">
                <a:moveTo>
                  <a:pt x="236792" y="446520"/>
                </a:moveTo>
                <a:lnTo>
                  <a:pt x="458659" y="212328"/>
                </a:lnTo>
                <a:lnTo>
                  <a:pt x="723900" y="463609"/>
                </a:lnTo>
                <a:lnTo>
                  <a:pt x="989141" y="212328"/>
                </a:lnTo>
                <a:lnTo>
                  <a:pt x="1211008" y="446520"/>
                </a:lnTo>
                <a:lnTo>
                  <a:pt x="958435" y="685800"/>
                </a:lnTo>
                <a:lnTo>
                  <a:pt x="1211008" y="925080"/>
                </a:lnTo>
                <a:lnTo>
                  <a:pt x="989141" y="1159272"/>
                </a:lnTo>
                <a:lnTo>
                  <a:pt x="723900" y="907991"/>
                </a:lnTo>
                <a:lnTo>
                  <a:pt x="458659" y="1159272"/>
                </a:lnTo>
                <a:lnTo>
                  <a:pt x="236792" y="925080"/>
                </a:lnTo>
                <a:lnTo>
                  <a:pt x="489365" y="6858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traight Connector 26"/>
          <p:cNvSpPr/>
          <p:nvPr/>
        </p:nvSpPr>
        <p:spPr>
          <a:xfrm flipV="1">
            <a:off x="3352680" y="2133360"/>
            <a:ext cx="914400" cy="152280"/>
          </a:xfrm>
          <a:prstGeom prst="line">
            <a:avLst/>
          </a:prstGeom>
          <a:ln w="381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traight Connector 27"/>
          <p:cNvSpPr/>
          <p:nvPr/>
        </p:nvSpPr>
        <p:spPr>
          <a:xfrm>
            <a:off x="3276720" y="2133720"/>
            <a:ext cx="914400" cy="152280"/>
          </a:xfrm>
          <a:prstGeom prst="line">
            <a:avLst/>
          </a:prstGeom>
          <a:ln w="381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star_cluster"/>
          <p:cNvPicPr/>
          <p:nvPr/>
        </p:nvPicPr>
        <p:blipFill>
          <a:blip r:embed="rId1"/>
          <a:stretch/>
        </p:blipFill>
        <p:spPr>
          <a:xfrm>
            <a:off x="0" y="0"/>
            <a:ext cx="9144000" cy="68976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Arial"/>
              </a:rPr>
              <a:t>What is a Plane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itle 1"/>
          <p:cNvSpPr/>
          <p:nvPr/>
        </p:nvSpPr>
        <p:spPr>
          <a:xfrm>
            <a:off x="304920" y="3657600"/>
            <a:ext cx="883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ff00"/>
                </a:solidFill>
                <a:latin typeface="Arial"/>
              </a:rPr>
              <a:t>In our opinion a planet is a celestial body that has to have an atmosphere and has to orbit the Sun or other giant stars. </a:t>
            </a:r>
            <a:r>
              <a:rPr b="1" lang="en-US" sz="2600" spc="-1" strike="noStrike">
                <a:solidFill>
                  <a:srgbClr val="00ff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ff00"/>
                </a:solidFill>
                <a:latin typeface="Arial"/>
              </a:rPr>
              <a:t>Has to have a mass no smaller than that of  0.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ff00"/>
                </a:solidFill>
                <a:latin typeface="Arial"/>
              </a:rPr>
              <a:t>Dwarf planets have to have a mass of 0.0005</a:t>
            </a:r>
            <a:r>
              <a:rPr b="1" lang="en-US" sz="26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ff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ff00"/>
                </a:solidFill>
                <a:latin typeface="Arial"/>
              </a:rPr>
              <a:t>The orbital period of the planet around the sun or giant star has to be 10.00000 for close planets and 70.00000 for far planets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ff00"/>
                </a:solidFill>
                <a:latin typeface="Arial"/>
              </a:rPr>
              <a:t>The planet  has to be  a certain distance away from the sun on close planets 8.0000 and far planets 50.00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ff00"/>
                </a:solidFill>
                <a:latin typeface="Arial"/>
              </a:rPr>
              <a:t>The number of moons has to be 1 or greater and have to orbit around the plan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ff00"/>
                </a:solidFill>
                <a:latin typeface="Arial"/>
              </a:rPr>
              <a:t>Must have a diameter of 0.5, earth diameter = 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8" descr="http://rds.yahoo.com/_ylt=A2KJkK7Zh1xNFlcA0GOjzbkF/SIG=13hmi9jtm/EXP=1297938521/**http%3a/www.wallpaperstop.com/wallpapers/space-wallpapers/space-backgrounds-1600x1200-0011.jpg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THE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our definition, the planets that made the cut are, earth, mars, Saturn, Jupiter, Uranus venues, Neptune and Plu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warf planets that made the cut are, Makemake, Haumea, Er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wo planets that didn’t classify as a planet are Ceres and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cury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15" descr="File:Milky Way Galax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523880" y="1828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nine eight plan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" descr="http://www.pavilion.co.uk/lcs/projects/space/images/mercury.jpg"/>
          <p:cNvPicPr/>
          <p:nvPr/>
        </p:nvPicPr>
        <p:blipFill>
          <a:blip r:embed="rId2"/>
          <a:stretch/>
        </p:blipFill>
        <p:spPr>
          <a:xfrm>
            <a:off x="0" y="0"/>
            <a:ext cx="1523880" cy="13334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http://www.pavilion.co.uk/lcs/projects/space/images/venus.jpg"/>
          <p:cNvPicPr/>
          <p:nvPr/>
        </p:nvPicPr>
        <p:blipFill>
          <a:blip r:embed="rId3"/>
          <a:stretch/>
        </p:blipFill>
        <p:spPr>
          <a:xfrm>
            <a:off x="0" y="5524560"/>
            <a:ext cx="1523880" cy="13334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" descr="http://www.pavilion.co.uk/lcs/projects/space/images/Earth.jpg"/>
          <p:cNvPicPr/>
          <p:nvPr/>
        </p:nvPicPr>
        <p:blipFill>
          <a:blip r:embed="rId4"/>
          <a:stretch/>
        </p:blipFill>
        <p:spPr>
          <a:xfrm>
            <a:off x="3962520" y="2590920"/>
            <a:ext cx="1523880" cy="13809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" descr="http://www.pavilion.co.uk/lcs/projects/space/images/mars.jpg"/>
          <p:cNvPicPr/>
          <p:nvPr/>
        </p:nvPicPr>
        <p:blipFill>
          <a:blip r:embed="rId5"/>
          <a:stretch/>
        </p:blipFill>
        <p:spPr>
          <a:xfrm>
            <a:off x="7620120" y="2743200"/>
            <a:ext cx="1523880" cy="13334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http://www.pavilion.co.uk/lcs/projects/space/images/jupiter.jpg"/>
          <p:cNvPicPr/>
          <p:nvPr/>
        </p:nvPicPr>
        <p:blipFill>
          <a:blip r:embed="rId6"/>
          <a:stretch/>
        </p:blipFill>
        <p:spPr>
          <a:xfrm>
            <a:off x="7620120" y="5524560"/>
            <a:ext cx="1523880" cy="13334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http://www.pavilion.co.uk/lcs/projects/space/images/saturn.jpg"/>
          <p:cNvPicPr/>
          <p:nvPr/>
        </p:nvPicPr>
        <p:blipFill>
          <a:blip r:embed="rId7"/>
          <a:stretch/>
        </p:blipFill>
        <p:spPr>
          <a:xfrm>
            <a:off x="0" y="2666880"/>
            <a:ext cx="1523880" cy="13338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7" descr="http://www.pavilion.co.uk/lcs/projects/space/images/uranus.jpg"/>
          <p:cNvPicPr/>
          <p:nvPr/>
        </p:nvPicPr>
        <p:blipFill>
          <a:blip r:embed="rId8"/>
          <a:stretch/>
        </p:blipFill>
        <p:spPr>
          <a:xfrm>
            <a:off x="7620120" y="0"/>
            <a:ext cx="1523880" cy="13334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8" descr="http://www.pavilion.co.uk/lcs/projects/space/images/neptune.jpg"/>
          <p:cNvPicPr/>
          <p:nvPr/>
        </p:nvPicPr>
        <p:blipFill>
          <a:blip r:embed="rId9"/>
          <a:stretch/>
        </p:blipFill>
        <p:spPr>
          <a:xfrm>
            <a:off x="3886200" y="0"/>
            <a:ext cx="1523880" cy="13334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9" descr="http://www.pavilion.co.uk/lcs/projects/space/images/pluto.jpg"/>
          <p:cNvPicPr/>
          <p:nvPr/>
        </p:nvPicPr>
        <p:blipFill>
          <a:blip r:embed="rId10"/>
          <a:stretch/>
        </p:blipFill>
        <p:spPr>
          <a:xfrm>
            <a:off x="4038480" y="5524560"/>
            <a:ext cx="1524240" cy="1333440"/>
          </a:xfrm>
          <a:prstGeom prst="rect">
            <a:avLst/>
          </a:prstGeom>
          <a:ln w="0">
            <a:noFill/>
          </a:ln>
        </p:spPr>
      </p:pic>
      <p:sp>
        <p:nvSpPr>
          <p:cNvPr id="196" name="TextBox 13"/>
          <p:cNvSpPr/>
          <p:nvPr/>
        </p:nvSpPr>
        <p:spPr>
          <a:xfrm>
            <a:off x="7848720" y="51055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up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5"/>
          <p:cNvSpPr/>
          <p:nvPr/>
        </p:nvSpPr>
        <p:spPr>
          <a:xfrm>
            <a:off x="380880" y="4038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16"/>
          <p:cNvSpPr/>
          <p:nvPr/>
        </p:nvSpPr>
        <p:spPr>
          <a:xfrm>
            <a:off x="304920" y="51055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ptu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7"/>
          <p:cNvSpPr/>
          <p:nvPr/>
        </p:nvSpPr>
        <p:spPr>
          <a:xfrm>
            <a:off x="4419720" y="4191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18"/>
          <p:cNvSpPr/>
          <p:nvPr/>
        </p:nvSpPr>
        <p:spPr>
          <a:xfrm>
            <a:off x="8001000" y="4191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20"/>
          <p:cNvSpPr/>
          <p:nvPr/>
        </p:nvSpPr>
        <p:spPr>
          <a:xfrm>
            <a:off x="7848720" y="16002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ra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21"/>
          <p:cNvSpPr/>
          <p:nvPr/>
        </p:nvSpPr>
        <p:spPr>
          <a:xfrm>
            <a:off x="4267080" y="5029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u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22"/>
          <p:cNvSpPr/>
          <p:nvPr/>
        </p:nvSpPr>
        <p:spPr>
          <a:xfrm>
            <a:off x="4114800" y="1523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23"/>
          <p:cNvSpPr/>
          <p:nvPr/>
        </p:nvSpPr>
        <p:spPr>
          <a:xfrm>
            <a:off x="228600" y="1447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rc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Multiply 24"/>
          <p:cNvSpPr/>
          <p:nvPr/>
        </p:nvSpPr>
        <p:spPr>
          <a:xfrm>
            <a:off x="0" y="0"/>
            <a:ext cx="1447920" cy="1371600"/>
          </a:xfrm>
          <a:custGeom>
            <a:avLst/>
            <a:gdLst>
              <a:gd name="textAreaLeft" fmla="*/ 236520 w 1447920"/>
              <a:gd name="textAreaRight" fmla="*/ 1211400 w 1447920"/>
              <a:gd name="textAreaTop" fmla="*/ 212040 h 1371600"/>
              <a:gd name="textAreaBottom" fmla="*/ 1159560 h 1371600"/>
            </a:gdLst>
            <a:ahLst/>
            <a:rect l="textAreaLeft" t="textAreaTop" r="textAreaRight" b="textAreaBottom"/>
            <a:pathLst>
              <a:path w="1447800" h="1371600">
                <a:moveTo>
                  <a:pt x="236792" y="446520"/>
                </a:moveTo>
                <a:lnTo>
                  <a:pt x="458659" y="212328"/>
                </a:lnTo>
                <a:lnTo>
                  <a:pt x="723900" y="463609"/>
                </a:lnTo>
                <a:lnTo>
                  <a:pt x="989141" y="212328"/>
                </a:lnTo>
                <a:lnTo>
                  <a:pt x="1211008" y="446520"/>
                </a:lnTo>
                <a:lnTo>
                  <a:pt x="958435" y="685800"/>
                </a:lnTo>
                <a:lnTo>
                  <a:pt x="1211008" y="925080"/>
                </a:lnTo>
                <a:lnTo>
                  <a:pt x="989141" y="1159272"/>
                </a:lnTo>
                <a:lnTo>
                  <a:pt x="723900" y="907991"/>
                </a:lnTo>
                <a:lnTo>
                  <a:pt x="458659" y="1159272"/>
                </a:lnTo>
                <a:lnTo>
                  <a:pt x="236792" y="925080"/>
                </a:lnTo>
                <a:lnTo>
                  <a:pt x="489365" y="6858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traight Connector 26"/>
          <p:cNvSpPr/>
          <p:nvPr/>
        </p:nvSpPr>
        <p:spPr>
          <a:xfrm flipV="1">
            <a:off x="3352680" y="2133360"/>
            <a:ext cx="914400" cy="152280"/>
          </a:xfrm>
          <a:prstGeom prst="line">
            <a:avLst/>
          </a:prstGeom>
          <a:ln w="381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traight Connector 27"/>
          <p:cNvSpPr/>
          <p:nvPr/>
        </p:nvSpPr>
        <p:spPr>
          <a:xfrm>
            <a:off x="3276720" y="2133720"/>
            <a:ext cx="914400" cy="152280"/>
          </a:xfrm>
          <a:prstGeom prst="line">
            <a:avLst/>
          </a:prstGeom>
          <a:ln w="381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8" descr="http://rds.yahoo.com/_ylt=A2KJkK7Zh1xNFlcA0GOjzbkF/SIG=13hmi9jtm/EXP=1297938521/**http%3a/www.wallpaperstop.com/wallpapers/space-wallpapers/space-backgrounds-1600x1200-0011.jpg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342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ff"/>
                </a:solidFill>
                <a:uFillTx/>
                <a:latin typeface="Arial"/>
              </a:rPr>
              <a:t>Thank you very much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= 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5" descr="File:Milky Way Galax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523880" y="1828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nine plan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" descr="http://www.pavilion.co.uk/lcs/projects/space/images/mercury.jpg"/>
          <p:cNvPicPr/>
          <p:nvPr/>
        </p:nvPicPr>
        <p:blipFill>
          <a:blip r:embed="rId2"/>
          <a:stretch/>
        </p:blipFill>
        <p:spPr>
          <a:xfrm>
            <a:off x="0" y="0"/>
            <a:ext cx="1523880" cy="1333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http://www.pavilion.co.uk/lcs/projects/space/images/venus.jpg"/>
          <p:cNvPicPr/>
          <p:nvPr/>
        </p:nvPicPr>
        <p:blipFill>
          <a:blip r:embed="rId3"/>
          <a:stretch/>
        </p:blipFill>
        <p:spPr>
          <a:xfrm>
            <a:off x="0" y="5524560"/>
            <a:ext cx="1523880" cy="1333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http://www.pavilion.co.uk/lcs/projects/space/images/Earth.jpg"/>
          <p:cNvPicPr/>
          <p:nvPr/>
        </p:nvPicPr>
        <p:blipFill>
          <a:blip r:embed="rId4"/>
          <a:stretch/>
        </p:blipFill>
        <p:spPr>
          <a:xfrm>
            <a:off x="3962520" y="2590920"/>
            <a:ext cx="1523880" cy="1380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http://www.pavilion.co.uk/lcs/projects/space/images/mars.jpg"/>
          <p:cNvPicPr/>
          <p:nvPr/>
        </p:nvPicPr>
        <p:blipFill>
          <a:blip r:embed="rId5"/>
          <a:stretch/>
        </p:blipFill>
        <p:spPr>
          <a:xfrm>
            <a:off x="7620120" y="2743200"/>
            <a:ext cx="1523880" cy="1333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http://www.pavilion.co.uk/lcs/projects/space/images/jupiter.jpg"/>
          <p:cNvPicPr/>
          <p:nvPr/>
        </p:nvPicPr>
        <p:blipFill>
          <a:blip r:embed="rId6"/>
          <a:stretch/>
        </p:blipFill>
        <p:spPr>
          <a:xfrm>
            <a:off x="7620120" y="5524560"/>
            <a:ext cx="1523880" cy="1333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http://www.pavilion.co.uk/lcs/projects/space/images/saturn.jpg"/>
          <p:cNvPicPr/>
          <p:nvPr/>
        </p:nvPicPr>
        <p:blipFill>
          <a:blip r:embed="rId7"/>
          <a:stretch/>
        </p:blipFill>
        <p:spPr>
          <a:xfrm>
            <a:off x="0" y="2666880"/>
            <a:ext cx="1523880" cy="1333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http://www.pavilion.co.uk/lcs/projects/space/images/uranus.jpg"/>
          <p:cNvPicPr/>
          <p:nvPr/>
        </p:nvPicPr>
        <p:blipFill>
          <a:blip r:embed="rId8"/>
          <a:stretch/>
        </p:blipFill>
        <p:spPr>
          <a:xfrm>
            <a:off x="7620120" y="0"/>
            <a:ext cx="1523880" cy="1333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http://www.pavilion.co.uk/lcs/projects/space/images/neptune.jpg"/>
          <p:cNvPicPr/>
          <p:nvPr/>
        </p:nvPicPr>
        <p:blipFill>
          <a:blip r:embed="rId9"/>
          <a:stretch/>
        </p:blipFill>
        <p:spPr>
          <a:xfrm>
            <a:off x="3886200" y="0"/>
            <a:ext cx="1523880" cy="1333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http://www.pavilion.co.uk/lcs/projects/space/images/pluto.jpg"/>
          <p:cNvPicPr/>
          <p:nvPr/>
        </p:nvPicPr>
        <p:blipFill>
          <a:blip r:embed="rId10"/>
          <a:stretch/>
        </p:blipFill>
        <p:spPr>
          <a:xfrm>
            <a:off x="3886200" y="5524560"/>
            <a:ext cx="1523880" cy="1333440"/>
          </a:xfrm>
          <a:prstGeom prst="rect">
            <a:avLst/>
          </a:prstGeom>
          <a:ln w="0">
            <a:noFill/>
          </a:ln>
        </p:spPr>
      </p:pic>
      <p:sp>
        <p:nvSpPr>
          <p:cNvPr id="58" name="TextBox 13"/>
          <p:cNvSpPr/>
          <p:nvPr/>
        </p:nvSpPr>
        <p:spPr>
          <a:xfrm>
            <a:off x="7848720" y="51055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up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5"/>
          <p:cNvSpPr/>
          <p:nvPr/>
        </p:nvSpPr>
        <p:spPr>
          <a:xfrm>
            <a:off x="380880" y="4038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6"/>
          <p:cNvSpPr/>
          <p:nvPr/>
        </p:nvSpPr>
        <p:spPr>
          <a:xfrm>
            <a:off x="304920" y="51055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ptu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7"/>
          <p:cNvSpPr/>
          <p:nvPr/>
        </p:nvSpPr>
        <p:spPr>
          <a:xfrm>
            <a:off x="4419720" y="4191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8"/>
          <p:cNvSpPr/>
          <p:nvPr/>
        </p:nvSpPr>
        <p:spPr>
          <a:xfrm>
            <a:off x="8001000" y="4191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0"/>
          <p:cNvSpPr/>
          <p:nvPr/>
        </p:nvSpPr>
        <p:spPr>
          <a:xfrm>
            <a:off x="7848720" y="16002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ra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1"/>
          <p:cNvSpPr/>
          <p:nvPr/>
        </p:nvSpPr>
        <p:spPr>
          <a:xfrm>
            <a:off x="4267080" y="5029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u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2"/>
          <p:cNvSpPr/>
          <p:nvPr/>
        </p:nvSpPr>
        <p:spPr>
          <a:xfrm>
            <a:off x="4114800" y="1523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3"/>
          <p:cNvSpPr/>
          <p:nvPr/>
        </p:nvSpPr>
        <p:spPr>
          <a:xfrm>
            <a:off x="228600" y="1447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rc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8" descr="http://rds.yahoo.com/_ylt=A2KJkK7Zh1xNFlcA0GOjzbkF/SIG=13hmi9jtm/EXP=1297938521/**http%3a/www.wallpaperstop.com/wallpapers/space-wallpapers/space-backgrounds-1600x1200-0011.jpg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" name="Object 2"/>
          <p:cNvGraphicFramePr/>
          <p:nvPr/>
        </p:nvGraphicFramePr>
        <p:xfrm>
          <a:off x="0" y="228600"/>
          <a:ext cx="9144000" cy="79246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28600"/>
                    <a:ext cx="9144000" cy="792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8" descr="http://rds.yahoo.com/_ylt=A2KJkK7Zh1xNFlcA0GOjzbkF/SIG=13hmi9jtm/EXP=1297938521/**http%3a/www.wallpaperstop.com/wallpapers/space-wallpapers/space-backgrounds-1600x1200-0011.jpg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Object 4"/>
          <p:cNvGraphicFramePr/>
          <p:nvPr/>
        </p:nvGraphicFramePr>
        <p:xfrm>
          <a:off x="652320" y="1068480"/>
          <a:ext cx="7785360" cy="5310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2320" y="1068480"/>
                    <a:ext cx="7785360" cy="53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Straight Connector 3"/>
          <p:cNvSpPr/>
          <p:nvPr/>
        </p:nvSpPr>
        <p:spPr>
          <a:xfrm>
            <a:off x="1752480" y="3657600"/>
            <a:ext cx="5943600" cy="0"/>
          </a:xfrm>
          <a:prstGeom prst="line">
            <a:avLst/>
          </a:prstGeom>
          <a:ln w="381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8" descr="http://rds.yahoo.com/_ylt=A2KJkK7Zh1xNFlcA0GOjzbkF/SIG=13hmi9jtm/EXP=1297938521/**http%3a/www.wallpaperstop.com/wallpapers/space-wallpapers/space-backgrounds-1600x1200-0011.jpg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5" name="Object 2"/>
          <p:cNvGraphicFramePr/>
          <p:nvPr/>
        </p:nvGraphicFramePr>
        <p:xfrm>
          <a:off x="201600" y="596880"/>
          <a:ext cx="8942400" cy="6230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6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1600" y="596880"/>
                    <a:ext cx="8942400" cy="623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Straight Connector 3"/>
          <p:cNvSpPr/>
          <p:nvPr/>
        </p:nvSpPr>
        <p:spPr>
          <a:xfrm>
            <a:off x="1143000" y="5562720"/>
            <a:ext cx="7086600" cy="0"/>
          </a:xfrm>
          <a:prstGeom prst="line">
            <a:avLst/>
          </a:prstGeom>
          <a:ln w="381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5" descr="File:Milky Way Galax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1523880" y="1828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nine eight plan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" descr="http://www.pavilion.co.uk/lcs/projects/space/images/mercury.jpg"/>
          <p:cNvPicPr/>
          <p:nvPr/>
        </p:nvPicPr>
        <p:blipFill>
          <a:blip r:embed="rId2"/>
          <a:stretch/>
        </p:blipFill>
        <p:spPr>
          <a:xfrm>
            <a:off x="0" y="0"/>
            <a:ext cx="1523880" cy="1333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http://www.pavilion.co.uk/lcs/projects/space/images/venus.jpg"/>
          <p:cNvPicPr/>
          <p:nvPr/>
        </p:nvPicPr>
        <p:blipFill>
          <a:blip r:embed="rId3"/>
          <a:stretch/>
        </p:blipFill>
        <p:spPr>
          <a:xfrm>
            <a:off x="0" y="5524560"/>
            <a:ext cx="1523880" cy="1333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http://www.pavilion.co.uk/lcs/projects/space/images/Earth.jpg"/>
          <p:cNvPicPr/>
          <p:nvPr/>
        </p:nvPicPr>
        <p:blipFill>
          <a:blip r:embed="rId4"/>
          <a:stretch/>
        </p:blipFill>
        <p:spPr>
          <a:xfrm>
            <a:off x="3962520" y="2590920"/>
            <a:ext cx="1523880" cy="1380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http://www.pavilion.co.uk/lcs/projects/space/images/mars.jpg"/>
          <p:cNvPicPr/>
          <p:nvPr/>
        </p:nvPicPr>
        <p:blipFill>
          <a:blip r:embed="rId5"/>
          <a:stretch/>
        </p:blipFill>
        <p:spPr>
          <a:xfrm>
            <a:off x="7620120" y="2743200"/>
            <a:ext cx="1523880" cy="1333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http://www.pavilion.co.uk/lcs/projects/space/images/jupiter.jpg"/>
          <p:cNvPicPr/>
          <p:nvPr/>
        </p:nvPicPr>
        <p:blipFill>
          <a:blip r:embed="rId6"/>
          <a:stretch/>
        </p:blipFill>
        <p:spPr>
          <a:xfrm>
            <a:off x="7620120" y="5524560"/>
            <a:ext cx="1523880" cy="1333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http://www.pavilion.co.uk/lcs/projects/space/images/saturn.jpg"/>
          <p:cNvPicPr/>
          <p:nvPr/>
        </p:nvPicPr>
        <p:blipFill>
          <a:blip r:embed="rId7"/>
          <a:stretch/>
        </p:blipFill>
        <p:spPr>
          <a:xfrm>
            <a:off x="0" y="2666880"/>
            <a:ext cx="1523880" cy="1333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http://www.pavilion.co.uk/lcs/projects/space/images/uranus.jpg"/>
          <p:cNvPicPr/>
          <p:nvPr/>
        </p:nvPicPr>
        <p:blipFill>
          <a:blip r:embed="rId8"/>
          <a:stretch/>
        </p:blipFill>
        <p:spPr>
          <a:xfrm>
            <a:off x="7620120" y="0"/>
            <a:ext cx="1523880" cy="1333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http://www.pavilion.co.uk/lcs/projects/space/images/neptune.jpg"/>
          <p:cNvPicPr/>
          <p:nvPr/>
        </p:nvPicPr>
        <p:blipFill>
          <a:blip r:embed="rId9"/>
          <a:stretch/>
        </p:blipFill>
        <p:spPr>
          <a:xfrm>
            <a:off x="3886200" y="0"/>
            <a:ext cx="1523880" cy="1333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http://www.pavilion.co.uk/lcs/projects/space/images/pluto.jpg"/>
          <p:cNvPicPr/>
          <p:nvPr/>
        </p:nvPicPr>
        <p:blipFill>
          <a:blip r:embed="rId10"/>
          <a:stretch/>
        </p:blipFill>
        <p:spPr>
          <a:xfrm>
            <a:off x="3886200" y="5524560"/>
            <a:ext cx="1523880" cy="1333440"/>
          </a:xfrm>
          <a:prstGeom prst="rect">
            <a:avLst/>
          </a:prstGeom>
          <a:ln w="0">
            <a:noFill/>
          </a:ln>
        </p:spPr>
      </p:pic>
      <p:sp>
        <p:nvSpPr>
          <p:cNvPr id="89" name="TextBox 13"/>
          <p:cNvSpPr/>
          <p:nvPr/>
        </p:nvSpPr>
        <p:spPr>
          <a:xfrm>
            <a:off x="7848720" y="51055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up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5"/>
          <p:cNvSpPr/>
          <p:nvPr/>
        </p:nvSpPr>
        <p:spPr>
          <a:xfrm>
            <a:off x="380880" y="4038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6"/>
          <p:cNvSpPr/>
          <p:nvPr/>
        </p:nvSpPr>
        <p:spPr>
          <a:xfrm>
            <a:off x="304920" y="51055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ptu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7"/>
          <p:cNvSpPr/>
          <p:nvPr/>
        </p:nvSpPr>
        <p:spPr>
          <a:xfrm>
            <a:off x="4419720" y="4191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8"/>
          <p:cNvSpPr/>
          <p:nvPr/>
        </p:nvSpPr>
        <p:spPr>
          <a:xfrm>
            <a:off x="8001000" y="4191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0"/>
          <p:cNvSpPr/>
          <p:nvPr/>
        </p:nvSpPr>
        <p:spPr>
          <a:xfrm>
            <a:off x="7848720" y="16002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ra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1"/>
          <p:cNvSpPr/>
          <p:nvPr/>
        </p:nvSpPr>
        <p:spPr>
          <a:xfrm>
            <a:off x="4267080" y="5029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u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2"/>
          <p:cNvSpPr/>
          <p:nvPr/>
        </p:nvSpPr>
        <p:spPr>
          <a:xfrm>
            <a:off x="4114800" y="1523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3"/>
          <p:cNvSpPr/>
          <p:nvPr/>
        </p:nvSpPr>
        <p:spPr>
          <a:xfrm>
            <a:off x="228600" y="1447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rc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Multiply 21"/>
          <p:cNvSpPr/>
          <p:nvPr/>
        </p:nvSpPr>
        <p:spPr>
          <a:xfrm>
            <a:off x="0" y="0"/>
            <a:ext cx="1447920" cy="1371600"/>
          </a:xfrm>
          <a:custGeom>
            <a:avLst/>
            <a:gdLst>
              <a:gd name="textAreaLeft" fmla="*/ 236520 w 1447920"/>
              <a:gd name="textAreaRight" fmla="*/ 1211400 w 1447920"/>
              <a:gd name="textAreaTop" fmla="*/ 212040 h 1371600"/>
              <a:gd name="textAreaBottom" fmla="*/ 1159560 h 1371600"/>
            </a:gdLst>
            <a:ahLst/>
            <a:rect l="textAreaLeft" t="textAreaTop" r="textAreaRight" b="textAreaBottom"/>
            <a:pathLst>
              <a:path w="1447800" h="1371600">
                <a:moveTo>
                  <a:pt x="236792" y="446520"/>
                </a:moveTo>
                <a:lnTo>
                  <a:pt x="458659" y="212328"/>
                </a:lnTo>
                <a:lnTo>
                  <a:pt x="723900" y="463609"/>
                </a:lnTo>
                <a:lnTo>
                  <a:pt x="989141" y="212328"/>
                </a:lnTo>
                <a:lnTo>
                  <a:pt x="1211008" y="446520"/>
                </a:lnTo>
                <a:lnTo>
                  <a:pt x="958435" y="685800"/>
                </a:lnTo>
                <a:lnTo>
                  <a:pt x="1211008" y="925080"/>
                </a:lnTo>
                <a:lnTo>
                  <a:pt x="989141" y="1159272"/>
                </a:lnTo>
                <a:lnTo>
                  <a:pt x="723900" y="907991"/>
                </a:lnTo>
                <a:lnTo>
                  <a:pt x="458659" y="1159272"/>
                </a:lnTo>
                <a:lnTo>
                  <a:pt x="236792" y="925080"/>
                </a:lnTo>
                <a:lnTo>
                  <a:pt x="489365" y="6858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traight Connector 27"/>
          <p:cNvSpPr/>
          <p:nvPr/>
        </p:nvSpPr>
        <p:spPr>
          <a:xfrm flipV="1">
            <a:off x="3352680" y="2133360"/>
            <a:ext cx="914400" cy="152280"/>
          </a:xfrm>
          <a:prstGeom prst="line">
            <a:avLst/>
          </a:prstGeom>
          <a:ln w="381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8" descr="http://rds.yahoo.com/_ylt=A2KJkK7Zh1xNFlcA0GOjzbkF/SIG=13hmi9jtm/EXP=1297938521/**http%3a/www.wallpaperstop.com/wallpapers/space-wallpapers/space-backgrounds-1600x1200-0011.jpg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" name="Object 5"/>
          <p:cNvGraphicFramePr/>
          <p:nvPr/>
        </p:nvGraphicFramePr>
        <p:xfrm>
          <a:off x="0" y="0"/>
          <a:ext cx="9144000" cy="6823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2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2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8" descr="http://rds.yahoo.com/_ylt=A2KJkK7Zh1xNFlcA0GOjzbkF/SIG=13hmi9jtm/EXP=1297938521/**http%3a/www.wallpaperstop.com/wallpapers/space-wallpapers/space-backgrounds-1600x1200-0011.jpg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Object 2"/>
          <p:cNvGraphicFramePr/>
          <p:nvPr/>
        </p:nvGraphicFramePr>
        <p:xfrm>
          <a:off x="0" y="228600"/>
          <a:ext cx="9144000" cy="79246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5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28600"/>
                    <a:ext cx="9144000" cy="792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1T22:21:40Z</dcterms:created>
  <dc:creator>Tech</dc:creator>
  <dc:description/>
  <dc:language>en-US</dc:language>
  <cp:lastModifiedBy>Amphitheater Public Schools</cp:lastModifiedBy>
  <dcterms:modified xsi:type="dcterms:W3CDTF">2011-02-17T19:33:26Z</dcterms:modified>
  <cp:revision>45</cp:revision>
  <dc:subject/>
  <dc:title>Definition of Planet</dc:title>
</cp:coreProperties>
</file>